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5/6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3400" cy="372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DE39-AAB1-4436-9E92-83EFDEBAC5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3400" cy="3729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日付プレースホルダ 3"/>
          <p:cNvSpPr/>
          <p:nvPr/>
        </p:nvSpPr>
        <p:spPr>
          <a:xfrm>
            <a:off x="3854520" y="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5/6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スライド番号プレースホルダ 4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BC87-B8BA-4920-A71A-3D3C1251CE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D07-22B1-4122-B315-6991BA0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1BF-2954-44B6-86EA-DF83D495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12E-BDE4-4C3B-86CC-D591E97E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8C4-FC77-447B-AEC2-E4890B8C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54D-2212-475A-AD32-A66CA72B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8B7-1480-4932-852E-87556005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418-4835-449D-92FB-24A396EB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DDF-29A4-4472-8A89-0423D4D8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EBD-101A-4C73-9330-E380C2A6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C73-C8E6-4ACA-B1FA-71692B4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BE0-D3B5-41FB-A8F8-D2825B76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413-7A32-4FC8-93D9-FAE6E3A2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FBE-E77D-4815-BBE7-930FFBA4EDFB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32360" y="5876640"/>
            <a:ext cx="36640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ープ九州事業連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2157480"/>
          </a:xfrm>
          <a:prstGeom prst="rect">
            <a:avLst/>
          </a:prstGeom>
          <a:ln w="0">
            <a:noFill/>
          </a:ln>
        </p:spPr>
      </p:pic>
      <p:sp>
        <p:nvSpPr>
          <p:cNvPr id="50" name="サブタイトル 2"/>
          <p:cNvSpPr/>
          <p:nvPr/>
        </p:nvSpPr>
        <p:spPr>
          <a:xfrm>
            <a:off x="1476360" y="3284640"/>
            <a:ext cx="6264360" cy="22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適正消費者規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ワークショッ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調理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６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食材は手早く調理し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1547640" y="3701880"/>
            <a:ext cx="2735280" cy="282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4716360" y="3629160"/>
            <a:ext cx="280836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事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７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子供や抵抗力の弱っている方に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生食用のお肉（鶏のたたきなど）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食べさせ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1"/>
          <a:srcRect l="0" t="4002" r="0" b="4002"/>
          <a:stretch/>
        </p:blipFill>
        <p:spPr>
          <a:xfrm>
            <a:off x="611280" y="5191200"/>
            <a:ext cx="18000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事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８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料理を取り分けるときは、取り箸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使っ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rcRect l="0" t="7645" r="0" b="8413"/>
          <a:stretch/>
        </p:blipFill>
        <p:spPr>
          <a:xfrm>
            <a:off x="4995720" y="458136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９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冷蔵庫は定期的に清掃していま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1"/>
          <a:stretch/>
        </p:blipFill>
        <p:spPr>
          <a:xfrm>
            <a:off x="6443640" y="4376880"/>
            <a:ext cx="1946160" cy="24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１０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開封した食材の保存方法は適切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tretch/>
        </p:blipFill>
        <p:spPr>
          <a:xfrm>
            <a:off x="6804000" y="4697280"/>
            <a:ext cx="21589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１１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食べ残した食品は廃棄し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7020000" y="455292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質問は以上です</a:t>
            </a:r>
            <a:br>
              <a:rPr sz="7200"/>
            </a:br>
            <a:br>
              <a:rPr sz="7200"/>
            </a:b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では、</a:t>
            </a:r>
            <a:br>
              <a:rPr sz="7200"/>
            </a:b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グループで交流です。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品の購入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１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今日の献立は決まっ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0" y="3716280"/>
            <a:ext cx="23572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056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      決まっていませ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5640" y="1557000"/>
            <a:ext cx="705636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考えるのが面倒（苦痛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お買い得品を参考に決め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買い物しながら決め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お買い物に時間がかか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正方形/長方形 3"/>
          <p:cNvSpPr/>
          <p:nvPr/>
        </p:nvSpPr>
        <p:spPr>
          <a:xfrm>
            <a:off x="111600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サブタイトル 2"/>
          <p:cNvSpPr/>
          <p:nvPr/>
        </p:nvSpPr>
        <p:spPr>
          <a:xfrm>
            <a:off x="1116000" y="3789360"/>
            <a:ext cx="7056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サブタイトル 2"/>
          <p:cNvSpPr/>
          <p:nvPr/>
        </p:nvSpPr>
        <p:spPr>
          <a:xfrm>
            <a:off x="1116000" y="3860640"/>
            <a:ext cx="6985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冷蔵庫に同じものがあ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買い物に時間がかか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無駄なものを買ってしま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056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      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</a:rPr>
              <a:t>決まっていま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5640" y="1557360"/>
            <a:ext cx="698508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今日は魚（肉）を使う程度は決め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短い時間でお買い物ができ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無駄な買い物をしなくてす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学校給食の献立を診て決めてい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4"/>
          <p:cNvSpPr/>
          <p:nvPr/>
        </p:nvSpPr>
        <p:spPr>
          <a:xfrm>
            <a:off x="111600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サブタイトル 2"/>
          <p:cNvSpPr/>
          <p:nvPr/>
        </p:nvSpPr>
        <p:spPr>
          <a:xfrm>
            <a:off x="1116000" y="3716280"/>
            <a:ext cx="69850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料理を考えるのが苦痛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料理がマンネリ化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家族のリクエストに対応しにく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冷蔵庫の食材を確認するのが面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アイスブレイク</a:t>
            </a:r>
            <a:br>
              <a:rPr sz="4400"/>
            </a:b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役割を決めましょう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2276640"/>
            <a:ext cx="777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色々な意見を出しやすくするために、まずは気持ちをほぐしましょう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グループで出た声を参加しているみんなで共有するために、書記役と発表者を決めましょ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品の購入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２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保冷剤やマイバッグを活用してい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5508720" y="4311720"/>
            <a:ext cx="273528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12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     活用していませ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1557360"/>
            <a:ext cx="712800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めんどうくさ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忘れてしま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お店で氷をもら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買い物袋は再利用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3"/>
          <p:cNvSpPr/>
          <p:nvPr/>
        </p:nvSpPr>
        <p:spPr>
          <a:xfrm>
            <a:off x="111600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サブタイトル 2"/>
          <p:cNvSpPr/>
          <p:nvPr/>
        </p:nvSpPr>
        <p:spPr>
          <a:xfrm>
            <a:off x="1116000" y="3933720"/>
            <a:ext cx="7128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冷凍食品がとけてしま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買い物したら急いで帰らないといけ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遠くで買い物ができ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　     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</a:rPr>
              <a:t>活用していま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7056720" cy="51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車やカバンに常に入れてい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仕事帰りに買い物しても安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買い物袋がごみにならなくてい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買い物した商品を他人に見られ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破れる心配が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保冷剤はお店で氷をもら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サブタイトル 2"/>
          <p:cNvSpPr/>
          <p:nvPr/>
        </p:nvSpPr>
        <p:spPr>
          <a:xfrm>
            <a:off x="1187280" y="4797360"/>
            <a:ext cx="70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常に持っていくのが面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家で袋が必要な時に買い物袋が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３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帰宅後、すぐに食材を保管して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rcRect l="0" t="5040" r="0" b="4392"/>
          <a:stretch/>
        </p:blipFill>
        <p:spPr>
          <a:xfrm>
            <a:off x="5508720" y="4548240"/>
            <a:ext cx="31669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0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        </a:t>
            </a:r>
            <a:r>
              <a:rPr b="0" lang="ja-JP" sz="4000" spc="-1" strike="noStrike">
                <a:solidFill>
                  <a:srgbClr val="ff0000"/>
                </a:solidFill>
                <a:latin typeface="Calibri"/>
              </a:rPr>
              <a:t>すぐに保管しませ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129800" cy="49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色々することがあるから、後回しにな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どうせその日に使う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3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サブタイトル 2"/>
          <p:cNvSpPr/>
          <p:nvPr/>
        </p:nvSpPr>
        <p:spPr>
          <a:xfrm>
            <a:off x="1187280" y="3284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冷凍食品が溶けてしま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0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</a:t>
            </a:r>
            <a:r>
              <a:rPr b="0" lang="ja-JP" sz="4000" spc="-1" strike="noStrike">
                <a:solidFill>
                  <a:srgbClr val="0070c0"/>
                </a:solidFill>
                <a:latin typeface="Calibri"/>
              </a:rPr>
              <a:t>すぐに保管しま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6985080" cy="51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冷凍品が溶けてしま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すぐに片づけないとジャマ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サブタイトル 2"/>
          <p:cNvSpPr/>
          <p:nvPr/>
        </p:nvSpPr>
        <p:spPr>
          <a:xfrm>
            <a:off x="1187280" y="3573360"/>
            <a:ext cx="698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疲れているときは面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４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保管をする際は、残っている食材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の日付（鮮度）チェックをし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rcRect l="0" t="5040" r="0" b="4392"/>
          <a:stretch/>
        </p:blipFill>
        <p:spPr>
          <a:xfrm>
            <a:off x="5508720" y="4548240"/>
            <a:ext cx="31669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0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        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日付（鮮度）チェックをしな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129800" cy="49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使う都度チェック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そのうち使うから大丈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サブタイトル 2"/>
          <p:cNvSpPr/>
          <p:nvPr/>
        </p:nvSpPr>
        <p:spPr>
          <a:xfrm>
            <a:off x="1187280" y="3284640"/>
            <a:ext cx="698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古い調味料が出てき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0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</a:t>
            </a:r>
            <a:r>
              <a:rPr b="0" lang="ja-JP" sz="3200" spc="-1" strike="noStrike">
                <a:solidFill>
                  <a:srgbClr val="0070c0"/>
                </a:solidFill>
                <a:latin typeface="Calibri"/>
              </a:rPr>
              <a:t>日付（鮮度）チェックをす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6985080" cy="51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使いかけや日付（鮮度）を気に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ストックしているものは買わ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安いからといって大量に買わ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日付の古いものを手前に並べ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サブタイトル 2"/>
          <p:cNvSpPr/>
          <p:nvPr/>
        </p:nvSpPr>
        <p:spPr>
          <a:xfrm>
            <a:off x="1187280" y="3573360"/>
            <a:ext cx="6985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日付を見るのが面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お買い得な時にたくさん買え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面倒く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時間がかかる（忙し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調理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５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調理前の手洗い、調理器具の洗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をし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1979640" y="4419720"/>
            <a:ext cx="2448000" cy="2438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5292720" y="4330800"/>
            <a:ext cx="20160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お買い物から調理・食事までの</a:t>
            </a:r>
            <a:br>
              <a:rPr sz="4400"/>
            </a:b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各シーンにおいて質問します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2276640"/>
            <a:ext cx="777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質問に対して、自分の普段の行動を</a:t>
            </a:r>
            <a:r>
              <a:rPr b="1" lang="ja-JP" sz="3200" spc="-1" strike="noStrike">
                <a:solidFill>
                  <a:srgbClr val="ff0000"/>
                </a:solidFill>
                <a:latin typeface="Calibri"/>
              </a:rPr>
              <a:t>正直に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用紙に記載してくださ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どちらを選択してもメリット、デメリットがありますので、それぞれの意見を尊重しましょう・また、</a:t>
            </a:r>
            <a:r>
              <a:rPr b="1" lang="ja-JP" sz="3200" spc="-1" strike="noStrike">
                <a:solidFill>
                  <a:srgbClr val="ff0000"/>
                </a:solidFill>
                <a:latin typeface="Calibri"/>
              </a:rPr>
              <a:t>行動の理由や失敗談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なども交流しましょ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注意：正しい答えを導き出すことが目的ではありませ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05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　　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手洗いをしていません</a:t>
            </a:r>
            <a:br>
              <a:rPr sz="3600"/>
            </a:b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　　　　　　　　調理器具を洗いませ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15640" y="1557360"/>
            <a:ext cx="7056360" cy="49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そんなに汚れてい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面倒くさ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手が荒れ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火を通すから大丈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洗ってもすぐ汚れる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あまり気にし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3"/>
          <p:cNvSpPr/>
          <p:nvPr/>
        </p:nvSpPr>
        <p:spPr>
          <a:xfrm>
            <a:off x="111600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サブタイトル 2"/>
          <p:cNvSpPr/>
          <p:nvPr/>
        </p:nvSpPr>
        <p:spPr>
          <a:xfrm>
            <a:off x="1116000" y="4653000"/>
            <a:ext cx="7056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ときどき家族に怒ら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お腹が痛くなったこと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0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      </a:t>
            </a:r>
            <a:r>
              <a:rPr b="0" lang="ja-JP" sz="3200" spc="-1" strike="noStrike">
                <a:solidFill>
                  <a:srgbClr val="0070c0"/>
                </a:solidFill>
                <a:latin typeface="Calibri"/>
              </a:rPr>
              <a:t>調理前には手洗いをします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r>
              <a:rPr b="0" lang="ja-JP" sz="3200" spc="-1" strike="noStrike">
                <a:solidFill>
                  <a:srgbClr val="0070c0"/>
                </a:solidFill>
                <a:latin typeface="Calibri"/>
              </a:rPr>
              <a:t>         器具の洗浄をしていま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698508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習慣になってい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自分がやらないと子供に注意でき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食中毒が怖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水洗いだけ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サブタイトル 2"/>
          <p:cNvSpPr/>
          <p:nvPr/>
        </p:nvSpPr>
        <p:spPr>
          <a:xfrm>
            <a:off x="1187280" y="4149720"/>
            <a:ext cx="6985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手が荒れ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面倒な時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調理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６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食材は手早く調理し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0" descr=""/>
          <p:cNvPicPr/>
          <p:nvPr/>
        </p:nvPicPr>
        <p:blipFill>
          <a:blip r:embed="rId1"/>
          <a:stretch/>
        </p:blipFill>
        <p:spPr>
          <a:xfrm>
            <a:off x="1547640" y="3701880"/>
            <a:ext cx="2735280" cy="282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4716360" y="3629160"/>
            <a:ext cx="280836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手早く調理していませ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42920" y="1557360"/>
            <a:ext cx="712944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他の家事をしながら調理しま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バタバタするのは嫌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他に手を取られて調理に集中でき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正方形/長方形 3"/>
          <p:cNvSpPr/>
          <p:nvPr/>
        </p:nvSpPr>
        <p:spPr>
          <a:xfrm>
            <a:off x="104292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サブタイトル 2"/>
          <p:cNvSpPr/>
          <p:nvPr/>
        </p:nvSpPr>
        <p:spPr>
          <a:xfrm>
            <a:off x="1042920" y="3357720"/>
            <a:ext cx="7129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料理が冷めてしま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食材を冷蔵庫から出し入れするのが面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　　</a:t>
            </a:r>
            <a:r>
              <a:rPr b="0" lang="ja-JP" sz="3600" spc="-1" strike="noStrike">
                <a:solidFill>
                  <a:srgbClr val="0070c0"/>
                </a:solidFill>
                <a:latin typeface="Calibri"/>
              </a:rPr>
              <a:t>手早く調理していま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698508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時間をかけるほど暇じゃ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調理する時間がそんなに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温かい料理を出したい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サブタイトル 2"/>
          <p:cNvSpPr/>
          <p:nvPr/>
        </p:nvSpPr>
        <p:spPr>
          <a:xfrm>
            <a:off x="1187280" y="3860640"/>
            <a:ext cx="698508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手の込んだ料理が作れ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タイミングが合わないと食事が遅く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けっこうキツ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事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７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子供や抵抗力の弱っている方に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生食用のお肉（鶏のたたきなど）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食べさせ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1"/>
          <a:srcRect l="0" t="4002" r="0" b="4002"/>
          <a:stretch/>
        </p:blipFill>
        <p:spPr>
          <a:xfrm>
            <a:off x="611280" y="5191200"/>
            <a:ext cx="18000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27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食べさせていませ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734544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好きじゃない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食べる習慣が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おかずにならない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食中毒が怖い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3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ja-JP" sz="3600" spc="-1" strike="noStrike">
                <a:solidFill>
                  <a:srgbClr val="ffffff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サブタイトル 2"/>
          <p:cNvSpPr/>
          <p:nvPr/>
        </p:nvSpPr>
        <p:spPr>
          <a:xfrm>
            <a:off x="1187280" y="3860640"/>
            <a:ext cx="72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一人で食べにく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よそで進められる時に断りにく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</a:t>
            </a:r>
            <a:r>
              <a:rPr b="0" lang="ja-JP" sz="4400" spc="-1" strike="noStrike">
                <a:solidFill>
                  <a:srgbClr val="00b050"/>
                </a:solidFill>
                <a:latin typeface="Calibri"/>
              </a:rPr>
              <a:t>　　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</a:rPr>
              <a:t>食べさせていま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698508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家族が好きだ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昔から食べている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サブタイトル 2"/>
          <p:cNvSpPr/>
          <p:nvPr/>
        </p:nvSpPr>
        <p:spPr>
          <a:xfrm>
            <a:off x="1187280" y="3789360"/>
            <a:ext cx="698508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お腹が痛くなったことがあ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事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８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料理を取り分けるときは、取り箸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使っ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rcRect l="0" t="7645" r="0" b="8413"/>
          <a:stretch/>
        </p:blipFill>
        <p:spPr>
          <a:xfrm>
            <a:off x="4995720" y="4581360"/>
            <a:ext cx="342900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29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Calibri"/>
              </a:rPr>
              <a:t>　　　取り箸を使っていませ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58920" y="1557000"/>
            <a:ext cx="6913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家族で食べるから汚く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使う必要が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ワイワイ食べるのが好きだ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洗い物が増える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3"/>
          <p:cNvSpPr/>
          <p:nvPr/>
        </p:nvSpPr>
        <p:spPr>
          <a:xfrm>
            <a:off x="125892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サブタイトル 2"/>
          <p:cNvSpPr/>
          <p:nvPr/>
        </p:nvSpPr>
        <p:spPr>
          <a:xfrm>
            <a:off x="1258920" y="4005360"/>
            <a:ext cx="6913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保存した料理が腐りやす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ジャムがカビたこと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それでは、</a:t>
            </a:r>
            <a:br>
              <a:rPr sz="7200"/>
            </a:b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始めましょう♪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b050"/>
                </a:solidFill>
                <a:latin typeface="Calibri"/>
              </a:rPr>
              <a:t>        </a:t>
            </a:r>
            <a:r>
              <a:rPr b="0" lang="ja-JP" sz="4000" spc="-1" strike="noStrike">
                <a:solidFill>
                  <a:srgbClr val="00b050"/>
                </a:solidFill>
                <a:latin typeface="Calibri"/>
              </a:rPr>
              <a:t>　</a:t>
            </a:r>
            <a:r>
              <a:rPr b="0" lang="ja-JP" sz="4000" spc="-1" strike="noStrike">
                <a:solidFill>
                  <a:srgbClr val="0070c0"/>
                </a:solidFill>
                <a:latin typeface="Calibri"/>
              </a:rPr>
              <a:t>取り箸を使っていま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6985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マナーとして使ってい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食品が痛む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サブタイトル 2"/>
          <p:cNvSpPr/>
          <p:nvPr/>
        </p:nvSpPr>
        <p:spPr>
          <a:xfrm>
            <a:off x="1187280" y="4005360"/>
            <a:ext cx="6985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洗い物が増え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家族に注意するのが面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９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冷蔵庫は定期的に清掃していま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6443640" y="4376880"/>
            <a:ext cx="1946160" cy="24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29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        </a:t>
            </a:r>
            <a:r>
              <a:rPr b="0" lang="ja-JP" sz="4000" spc="-1" strike="noStrike">
                <a:solidFill>
                  <a:srgbClr val="ff0000"/>
                </a:solidFill>
                <a:latin typeface="Calibri"/>
              </a:rPr>
              <a:t>清掃していませ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129800" cy="49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面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わかって入るけど・・・時間が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そんなに汚れていない（と思う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ひどく汚れた時は拭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3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サブタイトル 2"/>
          <p:cNvSpPr/>
          <p:nvPr/>
        </p:nvSpPr>
        <p:spPr>
          <a:xfrm>
            <a:off x="1187280" y="4076640"/>
            <a:ext cx="7129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ベタベタするところ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野菜室に土や干乾びた葉っぱ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b050"/>
                </a:solidFill>
                <a:latin typeface="Calibri"/>
              </a:rPr>
              <a:t>　　　　</a:t>
            </a:r>
            <a:r>
              <a:rPr b="0" lang="ja-JP" sz="4400" spc="-1" strike="noStrike">
                <a:solidFill>
                  <a:srgbClr val="0070c0"/>
                </a:solidFill>
                <a:latin typeface="Calibri"/>
              </a:rPr>
              <a:t>清掃していま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58920" y="1557360"/>
            <a:ext cx="6913440" cy="489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ベタベタが気になるので掃除しま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きれいな方が気持ちいい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4"/>
          <p:cNvSpPr/>
          <p:nvPr/>
        </p:nvSpPr>
        <p:spPr>
          <a:xfrm>
            <a:off x="125892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サブタイトル 2"/>
          <p:cNvSpPr/>
          <p:nvPr/>
        </p:nvSpPr>
        <p:spPr>
          <a:xfrm>
            <a:off x="1258920" y="3860640"/>
            <a:ext cx="6913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掃除が面倒な時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夏は温度が上がるから気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開けっ放しになるから電気代が気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１０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開封した食材の保存方法は適切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tretch/>
        </p:blipFill>
        <p:spPr>
          <a:xfrm>
            <a:off x="6804000" y="4697280"/>
            <a:ext cx="21589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2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　　　気にしていませ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712980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どうせすぐに使い切るか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気にする理由が分から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冷蔵庫に入れているから大丈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保存方法が分から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3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サブタイトル 2"/>
          <p:cNvSpPr/>
          <p:nvPr/>
        </p:nvSpPr>
        <p:spPr>
          <a:xfrm>
            <a:off x="1187280" y="4149720"/>
            <a:ext cx="6985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商品が傷んだこと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冷蔵庫がいっぱい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米びつに虫が発生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0" lang="ja-JP" sz="4000" spc="-1" strike="noStrike">
                <a:solidFill>
                  <a:srgbClr val="ff0000"/>
                </a:solidFill>
                <a:latin typeface="Calibri"/>
              </a:rPr>
              <a:t>　　　　</a:t>
            </a:r>
            <a:r>
              <a:rPr b="0" lang="ja-JP" sz="3600" spc="-1" strike="noStrike">
                <a:solidFill>
                  <a:srgbClr val="0070c0"/>
                </a:solidFill>
                <a:latin typeface="Calibri"/>
              </a:rPr>
              <a:t>適切に保管していま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86920" y="1557000"/>
            <a:ext cx="6985080" cy="50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包材記載を確認して保存してい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冷蔵庫（冷凍庫）を有効に使ってい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"/>
          <p:cNvSpPr/>
          <p:nvPr/>
        </p:nvSpPr>
        <p:spPr>
          <a:xfrm>
            <a:off x="1187280" y="18900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サブタイトル 2"/>
          <p:cNvSpPr/>
          <p:nvPr/>
        </p:nvSpPr>
        <p:spPr>
          <a:xfrm>
            <a:off x="1187280" y="3429000"/>
            <a:ext cx="69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保存方法が分からない場合が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冷蔵庫（冷凍庫）がいっぱい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１１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食べ残した食品は廃棄し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020000" y="4552920"/>
            <a:ext cx="17272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　　　　　特に気にしな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31640" y="1557000"/>
            <a:ext cx="7127640" cy="51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その日に食べるからそのままにしてい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温めなおすから大丈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ラップや鍋ブタはしな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3"/>
          <p:cNvSpPr/>
          <p:nvPr/>
        </p:nvSpPr>
        <p:spPr>
          <a:xfrm>
            <a:off x="1332000" y="189000"/>
            <a:ext cx="2160360" cy="1368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サブタイトル 2"/>
          <p:cNvSpPr/>
          <p:nvPr/>
        </p:nvSpPr>
        <p:spPr>
          <a:xfrm>
            <a:off x="1332000" y="3573360"/>
            <a:ext cx="6840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料理が腐った時があ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お腹が痛くなったことがあっ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</a:rPr>
              <a:t>　</a:t>
            </a:r>
            <a:r>
              <a:rPr b="0" lang="ja-JP" sz="4000" spc="-1" strike="noStrike">
                <a:solidFill>
                  <a:srgbClr val="0070c0"/>
                </a:solidFill>
                <a:latin typeface="Calibri"/>
              </a:rPr>
              <a:t>ちゃんと管理してま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6920" y="1628640"/>
            <a:ext cx="7129800" cy="511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・気温が高い日は冷蔵庫に入れていま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・気温が低い日はラップして保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・鍋にはフタを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・食べ残さない量を作りま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・残ったものは捨てま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4"/>
          <p:cNvSpPr/>
          <p:nvPr/>
        </p:nvSpPr>
        <p:spPr>
          <a:xfrm>
            <a:off x="1187280" y="260280"/>
            <a:ext cx="2160720" cy="1368360"/>
          </a:xfrm>
          <a:prstGeom prst="rect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サブタイトル 2"/>
          <p:cNvSpPr/>
          <p:nvPr/>
        </p:nvSpPr>
        <p:spPr>
          <a:xfrm>
            <a:off x="1187280" y="4724280"/>
            <a:ext cx="69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サブタイトル 2"/>
          <p:cNvSpPr/>
          <p:nvPr/>
        </p:nvSpPr>
        <p:spPr>
          <a:xfrm>
            <a:off x="1187280" y="4508640"/>
            <a:ext cx="6985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だけ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もったい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適量を作るのは大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・冷蔵庫がいっぱい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品の購入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１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今日の献立は決まっ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0" y="3716280"/>
            <a:ext cx="23572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お疲れ様でした♪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食品の購入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２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保冷剤やマイバッグを活用してい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5508720" y="4311720"/>
            <a:ext cx="273528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３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帰宅後、すぐに食材を保管して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rcRect l="0" t="5040" r="0" b="4392"/>
          <a:stretch/>
        </p:blipFill>
        <p:spPr>
          <a:xfrm>
            <a:off x="5508720" y="4548240"/>
            <a:ext cx="31669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家庭での保存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４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保管をする際は、残っている食材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の日付（鮮度）チェックをし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rcRect l="0" t="5040" r="0" b="4392"/>
          <a:stretch/>
        </p:blipFill>
        <p:spPr>
          <a:xfrm>
            <a:off x="5508720" y="4548240"/>
            <a:ext cx="3166920" cy="23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25440"/>
          </a:xfrm>
          <a:prstGeom prst="rect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調理の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質問　５　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調理前の手洗い、調理器具の洗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をしていま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　また、その理由はなぜですか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1979640" y="4419720"/>
            <a:ext cx="2448000" cy="24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5292720" y="4330800"/>
            <a:ext cx="20160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7:09:01Z</dcterms:created>
  <dc:creator>takaya</dc:creator>
  <dc:description/>
  <dc:language>en-US</dc:language>
  <cp:lastModifiedBy>qcoop</cp:lastModifiedBy>
  <cp:lastPrinted>2015-06-25T05:26:11Z</cp:lastPrinted>
  <dcterms:modified xsi:type="dcterms:W3CDTF">2016-11-10T06:54:53Z</dcterms:modified>
  <cp:revision>291</cp:revision>
  <dc:subject/>
  <dc:title>嗅覚官能検査における 体制整備について</dc:title>
</cp:coreProperties>
</file>